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7E0-D0B4-4BA4-9CB6-E8BF386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1FC-D625-4340-B8A5-7F16219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648-C18A-47E6-A04A-D1C5E0C0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753-9325-4790-91BE-CE234A96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07B-9C55-4BA8-9519-743F7C5C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5C6-32B7-43C2-8CB4-EFE7DFB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F42-89ED-416C-9EEF-410B147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57A-D1CF-47D5-9F0C-7F2DB18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D31-8319-4F3C-B4F0-63B1D24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C74-B2A4-4F34-8A94-6413712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0AB-D1F5-427E-B615-12D2A46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E23-DBF8-41DC-A391-07F91C4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AF9-A557-489F-AAA2-2C70834D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d.search.yahoo.co.jp/MMSIMG/Q=%A4%B3%A4%A4%A4&#932;&#1828;%EA/U=http%3A%2F%2Fwww.asuwafukushikai.jp%2Fhoikuen%2Fitinen%2F%25E3%2581%2593%25E3%2581%2584%25E3%2581%25AE%25E3%2581%25BC%25E3%2582%258A1.jpg/O=af55ecd93139e448/P=7/C=6ufosb50h55a3&amp;b=2/F=f/I=yahoojp/T=1114070852/*-http://www.asuwafukushikai.jp/hoikuen/itinen/&#12371;&#12356;&#12398;&#12412;&#12426;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92392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こどもの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581000"/>
            <a:ext cx="71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ildren’s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oinobori"/>
          <p:cNvPicPr/>
          <p:nvPr/>
        </p:nvPicPr>
        <p:blipFill>
          <a:blip r:embed="rId1"/>
          <a:stretch/>
        </p:blipFill>
        <p:spPr>
          <a:xfrm>
            <a:off x="468360" y="333360"/>
            <a:ext cx="459432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recent years, as more people have moved into apartments and smaller houses, the carp streamers have also gotten smaller, and there are now miniature versions that are decorated indo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656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y 5 is Children's Day, when families celebrate the healthy growth and happiness of children. It became a national holiday in 1948, but it has been a day of celebration in Japan since ancient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138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fifth day of the fifth month was traditionally called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たんごのせっく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 was a festival for boys. Girls have their own festival, called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ひなまつり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Dolls’ Festival), held on the third day of the third mo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%E3%81%93%E3%81%8 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33360"/>
            <a:ext cx="698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n Children‘s Day, families with boys fly huge carp-shaped streamers (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こいのぼり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 outside the house and display dolls of famous warriors and other heroes in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051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494172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carp was chosen because it symbolizes strength and success; according to a Chinese legend, a carp swam upstream to become a drag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芥川のこいのぼり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158000" cy="554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38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333000"/>
            <a:ext cx="82296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ents buy their sons samurai dolls, small decorative helmets called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かぶと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banners and military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5444640"/>
            <a:ext cx="8785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is samurai helmet is one of the cheap ones and it costs 80,000 yen (about NZ$1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837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4038480" cy="5937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292720" y="1197000"/>
            <a:ext cx="385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3 to 5 years old child can wear this samurai cost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is 120 cm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is expensive since a child can wear this; it costs 415,000 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about Z$5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01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6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2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6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7:52:51Z</dcterms:created>
  <dc:creator>kmatsumoto</dc:creator>
  <dc:description/>
  <dc:language>en-US</dc:language>
  <cp:lastModifiedBy>Ministry of Education</cp:lastModifiedBy>
  <dcterms:modified xsi:type="dcterms:W3CDTF">2010-06-01T00:18:07Z</dcterms:modified>
  <cp:revision>15</cp:revision>
  <dc:subject/>
  <dc:title>    こどもの日</dc:title>
</cp:coreProperties>
</file>